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870A-ED0B-4503-B95D-118D7FDB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35B3-E343-4C5F-95D0-F6A2AA1D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8F23-FDFB-4C3B-863C-1AFC6FF6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FB23-58EE-48E3-ABC1-208FC41B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E001-26A0-4611-A12B-9AE11EE3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993B-88AA-43EC-82A5-645A9AC0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8BC5-A53E-452D-87DD-C0FD62DF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5127-7083-4B50-8358-75E466FA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4B33-3863-4CF9-A6F9-A4C13341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4D81-9F85-4F7B-9F6F-5F61B074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0F3D-202A-456B-8656-82A64B60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4882-8F38-4CCE-A178-192B3F02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B751-8C16-4965-A22E-8755BE7C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1EC4-4489-45E8-8E9B-140CE06B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D305-2DA6-4708-A505-13D7C2D5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B8C4-F49B-416F-84F3-FCABEF54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006B-8196-459A-B793-CC1E98DB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896E-6993-4CF0-9BEE-C0651DB2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1310-F707-479A-8BF0-1151E9CA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8471-6963-44FD-9351-7DF7253F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C7B5-E6E8-45CB-92C3-05F90B3D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F887-EC4D-4F57-A1F0-5CB718BD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9CB3-6DF8-4DD7-8086-5AA3509B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91D2-4246-4C61-B18F-B75DB00C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3D5D-8A2C-41D2-84F1-B8759770258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A7E2-5F8A-4BF1-909D-B8F272FAE5A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813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四章 寄生虫感染的免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ity in Parasitic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慢性感染和进行性感染都反映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可有效地逃避宿主的免疫效应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逃避机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组织学隔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变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伪装（拟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表面脱落和更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抑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四、免疫逃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85988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研究抗寄生虫的特异性适应性免疫，对理解寄生虫的致病机制、免疫诊断、流行和防治等都具有十分重要的意义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一、寄生虫抗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于寄生虫的结构和生活史复杂使寄生虫抗原具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复杂性：表面抗原、代谢抗原和虫体抗原，以表面抗原和代谢抗原的免疫源性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多源性：具有属、种、株和期的特异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二、抗寄生虫的适应性免疫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570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热带利什曼原虫引起的东方疖可产生消除性免疫，这种免疫现象在寄生虫感染中罕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非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带虫免疫：某些寄生虫感染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疟原虫、刚地弓形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可诱导一种特异性免疫应答，使宿主体内的寄生虫数量降低，增殖减慢、维持低水平虫荷，导致临床痊愈，并产生抗特异性攻击的能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伴随免疫：有些蠕虫感染（日本血吸虫）可诱导宿主产生抗同种寄生虫幼虫再感染的能力，而已寄生的成虫不受保护性免疫的影响，继续存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9080" y="4110120"/>
            <a:ext cx="2303280" cy="2254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348000" y="4070520"/>
            <a:ext cx="1541520" cy="2311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257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6400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疟原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0120" y="64008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（刚地弓形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64008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伴随免疫（日本血吸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三、免疫效应机制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效应机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受体封闭和封闭细胞的黏合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性细胞介导的细胞毒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DC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经典的补体途径介导依赖抗体杀伤寄生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02160" cy="2203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70200" y="439416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介导免疫：抗寄生虫的适应性免疫中细胞免疫起重要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淋巴因子活化效应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6021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毒淋巴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自然杀伤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625840" y="1341360"/>
            <a:ext cx="3601800" cy="220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9:27:14Z</dcterms:modified>
  <cp:revision>122</cp:revision>
  <dc:subject/>
  <dc:title>医学寄生虫学总论</dc:title>
</cp:coreProperties>
</file>